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chimes.wav" ContentType="audio/x-wav"/>
  <Override PartName="/ppt/media/image7.wmf" ContentType="image/x-wmf"/>
  <Override PartName="/ppt/media/image4.wmf" ContentType="image/x-wmf"/>
  <Override PartName="/ppt/media/image6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360-B527-4905-B3EC-E6245C66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3BC-662B-4DE7-AF3C-F57B6C6D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852-5D1B-4594-8B78-9F189838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D1C-7436-4B4F-92FF-F2E4590B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E8D4-2821-4C47-A4C2-1C591308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6D65-BB77-4869-AF21-0A74821C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E624-86E3-460D-86B9-1C86AAA6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7C6F-0B39-4D76-94F7-454973E0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5CE5-778C-49D6-9BAF-41A96147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2F2F-4850-46E3-8169-574D4D9F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7159-3D25-4CC4-8386-4D131D8A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DD1-0D17-4D23-9287-1B690C9A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EE0E-85AA-4FF7-BB03-FD7685E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6853-88DF-4B6B-815D-6F590AFE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DE7B-AFE2-415F-AFAA-B19C57A0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DC55-2BAE-4888-AF5F-E2C85932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2B18-3C8A-4238-B7E2-2D2397E9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2A3-4272-40D4-B385-90097041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C9E-AA42-4D10-9DAC-B256091C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41F-18C2-4B27-938D-8FC22C1B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B48-CB2C-4906-A38D-359AEB90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015-AB4A-4220-8F14-0BEABADF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82F-84BE-4B08-B595-0DAC0EF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593-D443-41EB-A3A1-1CA4B2D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5154-4AC9-4B54-8AF5-75CF5E1CD2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1886-DE3E-40C5-A2D4-30D77E53CB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239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B 2: PERKAKASA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2" name="bs00580_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3581280" cy="3164040"/>
          </a:xfrm>
          <a:prstGeom prst="rect">
            <a:avLst/>
          </a:prstGeom>
          <a:ln w="0">
            <a:noFill/>
          </a:ln>
        </p:spPr>
      </p:pic>
    </p:spTree>
  </p:cSld>
  <p:transition spd="med" advTm="148000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304920"/>
            <a:ext cx="82296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AS PENYELENGARAAN PERKAKASAN KOMP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tuk membina sistem sendiri, kita perlu tahu apa yang dipasang dalam sesebuah sistem PC serta komponen penting l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ara komponen/peralatan yang diperlukan untuk menghidupkan sebuah komputer peribadi adalah seperti beriku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herboar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GA Car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Di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opy Dr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nd Car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RO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ak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ph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48000"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1344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228600"/>
            <a:ext cx="518148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uas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 PC dijana oleh kuasa elektri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1143000"/>
            <a:ext cx="49528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pan Litar Uta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u kepada semua lita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gagihkan kerja dan menghubungkan pelbagai komponen dalam P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286000"/>
            <a:ext cx="2819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awal &amp; Set Ci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3048120"/>
            <a:ext cx="792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 bertindak sebagai pegawai trafik yang mengawal pengaliran data antara pelbagai kompon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ip &gt; menentukan fungsi yang bakal disokong oleh komputer seperti kelajuan pemproses, kelajuan bus, jenis memor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48000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0880" y="304920"/>
            <a:ext cx="6553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NANGANI MASALAH PERKAKASAN KOMPUT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838080"/>
            <a:ext cx="79250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kalan Ku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abila skrin tiba-tiba gelap tanpa sebarang paparan, langkah pertama yang perlu dilakukan adalah dengan memeriksa bekalan kuasa untuk semua perkakas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ksa sama power supply berfungsi. Ini boleh dipastikan dengan melihat kipas penyejuk dibelakang sistem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tikan sambungan plug kuasa adalah kema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2819520"/>
            <a:ext cx="510552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ngan Boo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ngan semasa menghidupkan komputer mungkin disebabkan ole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et yang tidak dikeluarkan dari pemacunya semasa menghidupkan komputer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osakkan cakera kera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343400"/>
            <a:ext cx="830556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unga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u lagi masalah yang biasa pada perkakasan komputer ialah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bel yang tidak dipasang dengan ke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system terkena hentakan atau gegaran yang menyebabkan kabel akan longgar dan menyebabkan perkakasan gagal berfung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48000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5800" y="304920"/>
            <a:ext cx="6324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tikus dan Keyboar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tikus dan keyboard yang telah lama digunakan biasanya diliputi kekotoran pada bahagian dalam bebolanya yang memyebebkan tetikus tersebut gagal untuk berfungsi dengan baik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143000"/>
            <a:ext cx="670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ka tetikus atau papan kekunci tidak berfungsi pastikan sambungan kabel ke komputer adalah rap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1676520"/>
            <a:ext cx="609588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ny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ka terdapat kerosakkan pada bunyi, kita perlu memeriksa pembesar su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ain daripada itu kita kena periksa juga kad bunyi sama ada ia terpasang dengan rapat atau tida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2438280"/>
            <a:ext cx="480060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ROM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ka gagal membaca cakera kemungkinan head tela kotor ataupun telah rosak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1342800" cy="83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62120" y="4267080"/>
            <a:ext cx="58672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cetak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alah yang biasa timbul pada pencetak adala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osakkan cartrid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  sambungan kuasa elektrik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)  kabel ke komputer yang tidak ke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1726920" cy="1079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3225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48000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808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PENGENALAN KEPADA PERKAKASAN KOMPU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AS RAKABENTUK KOMPU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si Komputer : Mesin Elektronik yang diprogramkan untuk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erima ipput, memprosesny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tuk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geluarkan output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erti yang dikehendaki dan menyimpan data untuk kegunaan masa hadap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kakasan =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mputer dan komponen-komponenny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oh perkakasan: Monitor, Sistem Unit, Papan kekunci, Tetikus, Motherboard, Unit pemprosesan pusat d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kakasan dapat dibahagikan kepada 2 kategori iait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038480"/>
            <a:ext cx="91440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mponen Dala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mponen Lua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48000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2.2 KOMPONEN KOMPUTER LUAR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ponen komputer yang dapat kita lihat pada sebuah sistem komputer yang lengkap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04920" y="2057400"/>
            <a:ext cx="5905440" cy="679320"/>
            <a:chOff x="304920" y="2057400"/>
            <a:chExt cx="5905440" cy="679320"/>
          </a:xfrm>
        </p:grpSpPr>
        <p:grpSp>
          <p:nvGrpSpPr>
            <p:cNvPr id="147" name=""/>
            <p:cNvGrpSpPr/>
            <p:nvPr/>
          </p:nvGrpSpPr>
          <p:grpSpPr>
            <a:xfrm>
              <a:off x="309600" y="2062080"/>
              <a:ext cx="5896080" cy="669960"/>
              <a:chOff x="309600" y="2062080"/>
              <a:chExt cx="5896080" cy="6699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09600" y="2062080"/>
                <a:ext cx="1690560" cy="669960"/>
                <a:chOff x="309600" y="2062080"/>
                <a:chExt cx="1690560" cy="6699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78000" y="2062080"/>
                  <a:ext cx="15541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KOMPONE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09600" y="2062080"/>
                  <a:ext cx="16905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000160" y="2062080"/>
                <a:ext cx="4205520" cy="669960"/>
                <a:chOff x="2000160" y="2062080"/>
                <a:chExt cx="4205520" cy="6699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068560" y="2062080"/>
                  <a:ext cx="4068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NGSI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000160" y="2062080"/>
                  <a:ext cx="4205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304920" y="2057400"/>
              <a:ext cx="5905440" cy="679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04920" y="2752560"/>
            <a:ext cx="5905440" cy="2657520"/>
            <a:chOff x="304920" y="2752560"/>
            <a:chExt cx="5905440" cy="2657520"/>
          </a:xfrm>
        </p:grpSpPr>
        <p:grpSp>
          <p:nvGrpSpPr>
            <p:cNvPr id="156" name=""/>
            <p:cNvGrpSpPr/>
            <p:nvPr/>
          </p:nvGrpSpPr>
          <p:grpSpPr>
            <a:xfrm>
              <a:off x="309600" y="2757240"/>
              <a:ext cx="5896080" cy="2647800"/>
              <a:chOff x="309600" y="2757240"/>
              <a:chExt cx="5896080" cy="264780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309600" y="2757240"/>
                <a:ext cx="1690560" cy="2647800"/>
                <a:chOff x="309600" y="2757240"/>
                <a:chExt cx="1690560" cy="26478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78000" y="2757240"/>
                  <a:ext cx="1554120" cy="264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 PAPAN KEKUNCI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09600" y="2757240"/>
                  <a:ext cx="1690560" cy="264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000160" y="2757240"/>
                <a:ext cx="4205520" cy="2647800"/>
                <a:chOff x="2000160" y="2757240"/>
                <a:chExt cx="4205520" cy="26478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068560" y="2757240"/>
                  <a:ext cx="4068720" cy="264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eranti masukan/peranti input iaitu alat menerima data dan arahan daripada penggun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mbolehkan data mentah diproses menjadi maklumat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Jenis-jenis papan kekunci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)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Jenis Spring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Kekunci jenis ini mempunyai spring besi anjal yang kurang kecil bahagian bawah setiap kekunci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Kekunci jenis ini mengeluarkan bunyi yang kuat.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)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Jenis Membranc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nggunakan getah dibahagian bawah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bih lembut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Kurang bisi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000160" y="2757240"/>
                  <a:ext cx="4205520" cy="264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304920" y="2752560"/>
              <a:ext cx="5905440" cy="2657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48000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218960" cy="119052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09480" y="380880"/>
            <a:ext cx="5905440" cy="1197000"/>
            <a:chOff x="609480" y="380880"/>
            <a:chExt cx="5905440" cy="1197000"/>
          </a:xfrm>
        </p:grpSpPr>
        <p:grpSp>
          <p:nvGrpSpPr>
            <p:cNvPr id="166" name=""/>
            <p:cNvGrpSpPr/>
            <p:nvPr/>
          </p:nvGrpSpPr>
          <p:grpSpPr>
            <a:xfrm>
              <a:off x="614160" y="385560"/>
              <a:ext cx="5896080" cy="1187280"/>
              <a:chOff x="614160" y="385560"/>
              <a:chExt cx="5896080" cy="11872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614160" y="385560"/>
                <a:ext cx="1690560" cy="1187280"/>
                <a:chOff x="614160" y="385560"/>
                <a:chExt cx="1690560" cy="11872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2560" y="385560"/>
                  <a:ext cx="155412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 MONITO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4160" y="385560"/>
                  <a:ext cx="1690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304720" y="385560"/>
                <a:ext cx="4205520" cy="1187280"/>
                <a:chOff x="2304720" y="385560"/>
                <a:chExt cx="4205520" cy="1187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373120" y="385560"/>
                  <a:ext cx="406872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kelihatan seperti peti televisyen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lalui penggunaan skrin paparan (monitor), pengguna boleh melihat hasil yang diperolehi  melalui pemprosesan komput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a merupakan salah satu contoh peranti output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04720" y="385560"/>
                  <a:ext cx="42055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609480" y="380880"/>
              <a:ext cx="5905440" cy="1197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09480" y="1600200"/>
            <a:ext cx="5905440" cy="2475000"/>
            <a:chOff x="609480" y="1600200"/>
            <a:chExt cx="5905440" cy="2475000"/>
          </a:xfrm>
        </p:grpSpPr>
        <p:grpSp>
          <p:nvGrpSpPr>
            <p:cNvPr id="175" name=""/>
            <p:cNvGrpSpPr/>
            <p:nvPr/>
          </p:nvGrpSpPr>
          <p:grpSpPr>
            <a:xfrm>
              <a:off x="614160" y="1604880"/>
              <a:ext cx="5896080" cy="2465280"/>
              <a:chOff x="614160" y="1604880"/>
              <a:chExt cx="5896080" cy="24652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14160" y="1604880"/>
                <a:ext cx="1690560" cy="2465280"/>
                <a:chOff x="614160" y="1604880"/>
                <a:chExt cx="1690560" cy="2465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82560" y="1604880"/>
                  <a:ext cx="1554120" cy="246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 MOUS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14160" y="1604880"/>
                  <a:ext cx="1690560" cy="246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304720" y="1604880"/>
                <a:ext cx="4205520" cy="2465280"/>
                <a:chOff x="2304720" y="1604880"/>
                <a:chExt cx="4205520" cy="24652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373120" y="1604880"/>
                  <a:ext cx="4068720" cy="246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eranti masukan yang mengawal pergerakkan penunjuk atau kursor pada paparan skri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rupakan peranti kecil yang bergerak di atas permukaan keras dan rata dan ia bergerak berdasarkan pergerakkan bebola di bahagian bawahnya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iasanya mempunyai 1-3 butang yang mempunyai peranan sendiri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 aktiviti  utama tetikus adalah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)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   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Klik/ Klik sekali (Single click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i)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  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wiklik (Double Click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ii)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Klik sebelah kanan (Right click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v)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eret dan lepas ( Click and drag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304720" y="1604880"/>
                  <a:ext cx="4205520" cy="246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609480" y="1600200"/>
              <a:ext cx="5905440" cy="247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09480" y="4114800"/>
            <a:ext cx="5905440" cy="1928880"/>
            <a:chOff x="609480" y="4114800"/>
            <a:chExt cx="5905440" cy="1928880"/>
          </a:xfrm>
        </p:grpSpPr>
        <p:grpSp>
          <p:nvGrpSpPr>
            <p:cNvPr id="184" name=""/>
            <p:cNvGrpSpPr/>
            <p:nvPr/>
          </p:nvGrpSpPr>
          <p:grpSpPr>
            <a:xfrm>
              <a:off x="614160" y="4119480"/>
              <a:ext cx="5896080" cy="1919160"/>
              <a:chOff x="614160" y="4119480"/>
              <a:chExt cx="5896080" cy="19191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614160" y="4119480"/>
                <a:ext cx="1690560" cy="639720"/>
                <a:chOff x="614160" y="4119480"/>
                <a:chExt cx="1690560" cy="639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82560" y="4119480"/>
                  <a:ext cx="1554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 SPEAKER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14160" y="4119480"/>
                  <a:ext cx="1690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304720" y="4119480"/>
                <a:ext cx="4205520" cy="639720"/>
                <a:chOff x="2304720" y="4119480"/>
                <a:chExt cx="4205520" cy="6397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373120" y="4119480"/>
                  <a:ext cx="4068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 Membolehkan pengguna mendengar suar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04720" y="4119480"/>
                  <a:ext cx="420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14160" y="4759200"/>
                <a:ext cx="1690560" cy="639720"/>
                <a:chOff x="614160" y="4759200"/>
                <a:chExt cx="1690560" cy="6397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82560" y="4759200"/>
                  <a:ext cx="1554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. SCANNER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14160" y="4759200"/>
                  <a:ext cx="1690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304720" y="4759200"/>
                <a:ext cx="4205520" cy="639720"/>
                <a:chOff x="2304720" y="4759200"/>
                <a:chExt cx="4205520" cy="6397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373120" y="4759200"/>
                  <a:ext cx="4068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 Alat pengimbas gamba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304720" y="4759200"/>
                  <a:ext cx="420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14160" y="5398920"/>
                <a:ext cx="1690560" cy="639720"/>
                <a:chOff x="614160" y="5398920"/>
                <a:chExt cx="1690560" cy="6397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2560" y="5398920"/>
                  <a:ext cx="1554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. MICROPHON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14160" y="5398920"/>
                  <a:ext cx="1690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304720" y="5398920"/>
                <a:ext cx="4205520" cy="639720"/>
                <a:chOff x="2304720" y="5398920"/>
                <a:chExt cx="4205520" cy="6397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373120" y="5398920"/>
                  <a:ext cx="4068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at pembesar suar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04720" y="5398920"/>
                  <a:ext cx="420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609480" y="4114800"/>
              <a:ext cx="5905440" cy="1928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48000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914400" y="380880"/>
            <a:ext cx="5905440" cy="1014480"/>
            <a:chOff x="914400" y="380880"/>
            <a:chExt cx="5905440" cy="1014480"/>
          </a:xfrm>
        </p:grpSpPr>
        <p:grpSp>
          <p:nvGrpSpPr>
            <p:cNvPr id="205" name=""/>
            <p:cNvGrpSpPr/>
            <p:nvPr/>
          </p:nvGrpSpPr>
          <p:grpSpPr>
            <a:xfrm>
              <a:off x="919080" y="385560"/>
              <a:ext cx="5896080" cy="1004760"/>
              <a:chOff x="919080" y="385560"/>
              <a:chExt cx="5896080" cy="100476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919080" y="385560"/>
                <a:ext cx="1690560" cy="1004760"/>
                <a:chOff x="919080" y="385560"/>
                <a:chExt cx="1690560" cy="10047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987480" y="385560"/>
                  <a:ext cx="15541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. FLOPPY A:\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Pemacu cakera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919080" y="385560"/>
                  <a:ext cx="1690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609640" y="385560"/>
                <a:ext cx="4205520" cy="1004760"/>
                <a:chOff x="2609640" y="385560"/>
                <a:chExt cx="4205520" cy="10047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678040" y="385560"/>
                  <a:ext cx="4068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emacu cakera (Disk Drive) alata yang membolehkan data dibaca/ditulis kepadanya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merlukan cakera liut (disket) untuk menyimpan dat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609640" y="385560"/>
                  <a:ext cx="42055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914400" y="380880"/>
              <a:ext cx="5905440" cy="1014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1295280" cy="9907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914400" y="1447920"/>
            <a:ext cx="5905440" cy="2384280"/>
            <a:chOff x="914400" y="1447920"/>
            <a:chExt cx="5905440" cy="2384280"/>
          </a:xfrm>
        </p:grpSpPr>
        <p:grpSp>
          <p:nvGrpSpPr>
            <p:cNvPr id="215" name=""/>
            <p:cNvGrpSpPr/>
            <p:nvPr/>
          </p:nvGrpSpPr>
          <p:grpSpPr>
            <a:xfrm>
              <a:off x="919080" y="1452600"/>
              <a:ext cx="5896080" cy="2374920"/>
              <a:chOff x="919080" y="1452600"/>
              <a:chExt cx="5896080" cy="237492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919080" y="1452600"/>
                <a:ext cx="1690560" cy="822240"/>
                <a:chOff x="919080" y="1452600"/>
                <a:chExt cx="1690560" cy="822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987480" y="1452600"/>
                  <a:ext cx="1554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. CASI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919080" y="1452600"/>
                  <a:ext cx="1690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609640" y="1452600"/>
                <a:ext cx="4205520" cy="822240"/>
                <a:chOff x="2609640" y="1452600"/>
                <a:chExt cx="4205520" cy="8222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678040" y="1452600"/>
                  <a:ext cx="4068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ahagian luar Unit Sistem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enutu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09640" y="1452600"/>
                  <a:ext cx="4205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919080" y="2274840"/>
                <a:ext cx="1690560" cy="1552680"/>
                <a:chOff x="919080" y="2274840"/>
                <a:chExt cx="1690560" cy="15526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987480" y="2274840"/>
                  <a:ext cx="15541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. PRINT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19080" y="2274840"/>
                  <a:ext cx="169056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2609640" y="2274840"/>
                <a:ext cx="4205520" cy="1552680"/>
                <a:chOff x="2609640" y="2274840"/>
                <a:chExt cx="4205520" cy="15526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678040" y="2274840"/>
                  <a:ext cx="40687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714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eranti yang menghasilkan salinan cetakan pada kerta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714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Jenis-jenis pencetak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714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encetak Bintik Matrik (Dot Matrik)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714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emburan Dakwat (Ink je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714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emburan gelembung (Bubble jet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714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as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714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609640" y="2274840"/>
                  <a:ext cx="42055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" name=""/>
            <p:cNvSpPr/>
            <p:nvPr/>
          </p:nvSpPr>
          <p:spPr>
            <a:xfrm>
              <a:off x="914400" y="1447920"/>
              <a:ext cx="5905440" cy="2384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48000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OMPONEN DALAMA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38080"/>
            <a:ext cx="9144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ponen komputer dalaman adalah komponen-komponen komputer yang terdapat didalam kekotak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PU and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90720" y="1447920"/>
            <a:ext cx="5905440" cy="679320"/>
            <a:chOff x="990720" y="1447920"/>
            <a:chExt cx="5905440" cy="679320"/>
          </a:xfrm>
        </p:grpSpPr>
        <p:grpSp>
          <p:nvGrpSpPr>
            <p:cNvPr id="232" name=""/>
            <p:cNvGrpSpPr/>
            <p:nvPr/>
          </p:nvGrpSpPr>
          <p:grpSpPr>
            <a:xfrm>
              <a:off x="995400" y="1452600"/>
              <a:ext cx="5896080" cy="669960"/>
              <a:chOff x="995400" y="1452600"/>
              <a:chExt cx="5896080" cy="66996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995400" y="1452600"/>
                <a:ext cx="1690560" cy="669960"/>
                <a:chOff x="995400" y="1452600"/>
                <a:chExt cx="1690560" cy="6699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063800" y="1452600"/>
                  <a:ext cx="15541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KOMPONE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995400" y="1452600"/>
                  <a:ext cx="16905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685960" y="1452600"/>
                <a:ext cx="4205520" cy="669960"/>
                <a:chOff x="2685960" y="1452600"/>
                <a:chExt cx="4205520" cy="669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754360" y="1452600"/>
                  <a:ext cx="4068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NGSI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685960" y="1452600"/>
                  <a:ext cx="4205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990720" y="1447920"/>
              <a:ext cx="5905440" cy="679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990720" y="2133720"/>
            <a:ext cx="5905440" cy="1379520"/>
            <a:chOff x="990720" y="2133720"/>
            <a:chExt cx="5905440" cy="1379520"/>
          </a:xfrm>
        </p:grpSpPr>
        <p:grpSp>
          <p:nvGrpSpPr>
            <p:cNvPr id="241" name=""/>
            <p:cNvGrpSpPr/>
            <p:nvPr/>
          </p:nvGrpSpPr>
          <p:grpSpPr>
            <a:xfrm>
              <a:off x="995400" y="2138400"/>
              <a:ext cx="5896080" cy="1370160"/>
              <a:chOff x="995400" y="2138400"/>
              <a:chExt cx="5896080" cy="137016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995400" y="2138400"/>
                <a:ext cx="1690560" cy="1370160"/>
                <a:chOff x="995400" y="2138400"/>
                <a:chExt cx="1690560" cy="1370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063800" y="2138400"/>
                  <a:ext cx="15541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 CPU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995400" y="2138400"/>
                  <a:ext cx="1690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685960" y="2138400"/>
                <a:ext cx="4205520" cy="1370160"/>
                <a:chOff x="2685960" y="2138400"/>
                <a:chExt cx="4205520" cy="13701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754360" y="2138400"/>
                  <a:ext cx="4068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nit Pemprosesan Pusat (Central Processing Unit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tak sesebuah sistem komput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erperanan menterjemahkan data input kepada maklumat output yang lebih bermakn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rupakan litar elektronik yang dinamakan pemproses mikro  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685960" y="2138400"/>
                  <a:ext cx="42055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"/>
            <p:cNvSpPr/>
            <p:nvPr/>
          </p:nvSpPr>
          <p:spPr>
            <a:xfrm>
              <a:off x="990720" y="2133720"/>
              <a:ext cx="5905440" cy="1379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990720" y="3505320"/>
            <a:ext cx="5905440" cy="1562040"/>
            <a:chOff x="990720" y="3505320"/>
            <a:chExt cx="5905440" cy="1562040"/>
          </a:xfrm>
        </p:grpSpPr>
        <p:grpSp>
          <p:nvGrpSpPr>
            <p:cNvPr id="250" name=""/>
            <p:cNvGrpSpPr/>
            <p:nvPr/>
          </p:nvGrpSpPr>
          <p:grpSpPr>
            <a:xfrm>
              <a:off x="995400" y="3510000"/>
              <a:ext cx="5896080" cy="1552680"/>
              <a:chOff x="995400" y="3510000"/>
              <a:chExt cx="5896080" cy="15526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995400" y="3510000"/>
                <a:ext cx="1690560" cy="1552680"/>
                <a:chOff x="995400" y="3510000"/>
                <a:chExt cx="1690560" cy="15526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063800" y="3510000"/>
                  <a:ext cx="15541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ARD DISK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995400" y="3510000"/>
                  <a:ext cx="169056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685960" y="3510000"/>
                <a:ext cx="4205520" cy="1552680"/>
                <a:chOff x="2685960" y="3510000"/>
                <a:chExt cx="4205520" cy="15526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754360" y="3510000"/>
                  <a:ext cx="40687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rupakan plat besi yang diselaputi oksida bermagnet yang boleh dimagnetikan bagi tujuan perwakilan dat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stilah “Keras” mewakili keadaan fizikalnya yang keras berbanding cakera liut yang lembut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ampu menampung saiz data yang besar dan proses capaian data yang lebih panta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685960" y="3510000"/>
                  <a:ext cx="42055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990720" y="3505320"/>
              <a:ext cx="5905440" cy="1562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48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143000" y="304920"/>
            <a:ext cx="5905440" cy="1744560"/>
            <a:chOff x="1143000" y="304920"/>
            <a:chExt cx="5905440" cy="1744560"/>
          </a:xfrm>
        </p:grpSpPr>
        <p:grpSp>
          <p:nvGrpSpPr>
            <p:cNvPr id="259" name=""/>
            <p:cNvGrpSpPr/>
            <p:nvPr/>
          </p:nvGrpSpPr>
          <p:grpSpPr>
            <a:xfrm>
              <a:off x="1147680" y="309600"/>
              <a:ext cx="5896080" cy="1735200"/>
              <a:chOff x="1147680" y="309600"/>
              <a:chExt cx="5896080" cy="173520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1147680" y="309600"/>
                <a:ext cx="1690560" cy="1735200"/>
                <a:chOff x="1147680" y="309600"/>
                <a:chExt cx="1690560" cy="17352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216080" y="309600"/>
                  <a:ext cx="1554120" cy="17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US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47680" y="309600"/>
                  <a:ext cx="1690560" cy="173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838240" y="309600"/>
                <a:ext cx="4205520" cy="1735200"/>
                <a:chOff x="2838240" y="309600"/>
                <a:chExt cx="4205520" cy="17352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906640" y="309600"/>
                  <a:ext cx="4068720" cy="17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alian bas merupakan laluan elektronik di dalam system komputer yang berperanan membawa atau memindahkan maklumat antara komponen-komponen komput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jumlah data atau maklumat yang mampu dihantar atau dibawa oleh sesuatu talian bas bergantung kepada lebar bas tersebu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emakin lebar talian bas semakin banyak data yang boleh dipindahkan dalam suatu mas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38240" y="309600"/>
                  <a:ext cx="4205520" cy="173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1143000" y="304920"/>
              <a:ext cx="5905440" cy="1744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1371600" cy="144792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1143000" y="2009880"/>
            <a:ext cx="5905440" cy="4543200"/>
            <a:chOff x="1143000" y="2009880"/>
            <a:chExt cx="5905440" cy="4543200"/>
          </a:xfrm>
        </p:grpSpPr>
        <p:grpSp>
          <p:nvGrpSpPr>
            <p:cNvPr id="269" name=""/>
            <p:cNvGrpSpPr/>
            <p:nvPr/>
          </p:nvGrpSpPr>
          <p:grpSpPr>
            <a:xfrm>
              <a:off x="1147680" y="2014200"/>
              <a:ext cx="5896080" cy="4534200"/>
              <a:chOff x="1147680" y="2014200"/>
              <a:chExt cx="5896080" cy="453420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1147680" y="2014200"/>
                <a:ext cx="1690560" cy="4534200"/>
                <a:chOff x="1147680" y="2014200"/>
                <a:chExt cx="1690560" cy="45342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216080" y="2014200"/>
                  <a:ext cx="1554120" cy="45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GATAN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147680" y="2014200"/>
                  <a:ext cx="1690560" cy="453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838240" y="2014200"/>
                <a:ext cx="4205520" cy="4534200"/>
                <a:chOff x="2838240" y="2014200"/>
                <a:chExt cx="4205520" cy="4534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906640" y="2014200"/>
                  <a:ext cx="4068720" cy="45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komponen komputer yang berperanan membawa atau memegang data atau set arahan sebelum, semasa dan selepas ia diprose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erbahagi kepada 2 iaitu :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                     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am (Random Access Memory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gatan capaian rawak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Juga dikenali  sebagai ingatan utama &gt; data atau arahan boleh dicapai secara rawak di dalamnya dan ia boleh melaksanakan proses (baca dan tulis)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ata akan hilang sebaik sahaja komputer ditutup.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om (Read Only Memory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gatan baca sahaja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kenali sebagai ingatan kekal yang sedia ada dalam komputer walaupaun komputer telah ditutup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iasanya telah diprogram oleh pengeluar komputer semasa dikilang dan tidak boleh diubah sama sekali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rujuk kepada baca sahaja yang hanya boleh dibaca dan tidak boleh ditulis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idak berkeupayaan menyimpan data/araha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enting bagi setiap komputer kerana di dalamnya terkandung banyak arahan dasar yang diperlukan komputer untuk beroperasi dengan lanca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idak kehilangan data/arahan walaupuj komputer off (Non-volatile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38240" y="2014200"/>
                  <a:ext cx="4205520" cy="453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>
              <a:off x="1143000" y="2009880"/>
              <a:ext cx="5905440" cy="4543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48000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1371600" y="762120"/>
            <a:ext cx="5905440" cy="2566800"/>
            <a:chOff x="1371600" y="762120"/>
            <a:chExt cx="5905440" cy="2566800"/>
          </a:xfrm>
        </p:grpSpPr>
        <p:grpSp>
          <p:nvGrpSpPr>
            <p:cNvPr id="278" name=""/>
            <p:cNvGrpSpPr/>
            <p:nvPr/>
          </p:nvGrpSpPr>
          <p:grpSpPr>
            <a:xfrm>
              <a:off x="1376280" y="766800"/>
              <a:ext cx="5896080" cy="2557440"/>
              <a:chOff x="1376280" y="766800"/>
              <a:chExt cx="5896080" cy="25574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376280" y="766800"/>
                <a:ext cx="1690560" cy="1004760"/>
                <a:chOff x="1376280" y="766800"/>
                <a:chExt cx="1690560" cy="1004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444680" y="766800"/>
                  <a:ext cx="15541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PU CLOCK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376280" y="766800"/>
                  <a:ext cx="1690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066840" y="766800"/>
                <a:ext cx="4205520" cy="1004760"/>
                <a:chOff x="3066840" y="766800"/>
                <a:chExt cx="4205520" cy="10047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135240" y="766800"/>
                  <a:ext cx="4068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anya dikawal oleh osilator (oscillator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silator membenarkan cpu beroperasi dengan kadar yang berbeza untuk setiap komponen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066840" y="766800"/>
                  <a:ext cx="42055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376280" y="1771560"/>
                <a:ext cx="1690560" cy="1552680"/>
                <a:chOff x="1376280" y="1771560"/>
                <a:chExt cx="1690560" cy="15526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444680" y="1771560"/>
                  <a:ext cx="15541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OTHER BOARD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376280" y="1771560"/>
                  <a:ext cx="169056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066840" y="1771560"/>
                <a:ext cx="4205520" cy="1552680"/>
                <a:chOff x="3066840" y="1771560"/>
                <a:chExt cx="4205520" cy="15526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135240" y="1771560"/>
                  <a:ext cx="40687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pan litar yang paling besar dan utama dalam sesebuah sistem komputer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pan induk menjadi pusat bagi menghubung serta tapak bagi CPU, BIOS, Ingatan utama, Liang bersiri, Slot tambahan dan pelbagai pengawal yang mengawal peranti utama seperti monitor, keyboard, driver dan sebagainya 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1430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066840" y="1771560"/>
                  <a:ext cx="42055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1371600" y="762120"/>
              <a:ext cx="5905440" cy="256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48000">
    <p:dissolv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3 ASAS PEMASANGAN DAN PENYELENGGARAAN PERKAKASAN KOMPU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48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K KOTA MARUDU</cp:lastModifiedBy>
  <dcterms:modified xsi:type="dcterms:W3CDTF">2002-02-06T06:28:27Z</dcterms:modified>
  <cp:revision>2</cp:revision>
  <dc:subject/>
  <dc:title>BAB 2: PERKAKASAN</dc:title>
</cp:coreProperties>
</file>