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DCE1-78F6-4B6F-8310-85CB8D070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37A0-0CE7-4EE2-BE95-E2F4FCE04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07B2-E6BB-498A-9427-47AE04A3A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AAB0-AE73-46F1-A8F8-918E682D4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59266-3829-4DED-9A35-15F3FAA93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A2C0E-78B4-4DDA-8362-05B58A852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A13BF-C9B1-4419-AD79-FA2F872D0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297FE-C091-4E91-A3CD-9BFA8204F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50E2F-59A5-4104-9461-E43C5FC26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1E95B-C967-44C0-B6C4-C1172EB4C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B1EC6-C6DA-4DC4-A8EA-155105CD5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C1D4-1256-4235-B939-1A3FC32FE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3C228-6583-4EB3-AB3F-20200FD7A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D6639-654B-43CC-B3B4-A6C1E5F9D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C6212-2231-418F-B39D-B441AF9B2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5EE3E-DF23-467C-9B5C-29F3116A4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CE62A-29E5-45E3-96DD-B82B21D75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44A3-69DB-4677-8D98-11AAE6FEE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40D3-7DCB-4408-B1D1-E2D6DDCB0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2877-42BD-4412-AD53-22CDFA281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B709-909D-448F-8BF8-1B5253CBF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EC0B-86F5-40F5-B546-C535EE40F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2FAC-DED9-4F97-B261-B49E22C4D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1EAE-4DA6-4910-9342-422007AA6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minispir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minispir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437DC-CE2A-4EF6-A4C7-BB53024C24F0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B38F3-1FD6-4F34-BFA7-D85DEF5AF5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minispir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minispir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970E0-F94E-4AFE-8951-1AC07AA6E0E8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76B29-CA8D-4A5D-853B-C5C887EC66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49040" y="1218960"/>
            <a:ext cx="77216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221304"/>
                </a:solidFill>
                <a:latin typeface="Times New Roman"/>
              </a:rPr>
              <a:t>SELAMAT DATANG</a:t>
            </a:r>
            <a:endParaRPr b="0" lang="en-US" sz="9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usat Komputer Mind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FDBEE7F3-29D0-4871-ADA3-DDED4BCBB69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Wingdings 2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aman Selepas 19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451"/>
              </a:spcBef>
              <a:buClr>
                <a:srgbClr val="000000"/>
              </a:buClr>
              <a:buFont typeface="Wingdings 2" charset="2"/>
              <a:buChar char="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944 – Mark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451"/>
              </a:spcBef>
              <a:buClr>
                <a:srgbClr val="000000"/>
              </a:buClr>
              <a:buFont typeface="Wingdings 2" charset="2"/>
              <a:buChar char="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946 – Eniac ( Electronic Numetical Integrator and Calculator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451"/>
              </a:spcBef>
              <a:buClr>
                <a:srgbClr val="000000"/>
              </a:buClr>
              <a:buFont typeface="Wingdings 2" charset="2"/>
              <a:buChar char="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948 Edvac ( Electronic Discrete Variable Automatic Computer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451"/>
              </a:spcBef>
              <a:buClr>
                <a:srgbClr val="000000"/>
              </a:buClr>
              <a:buFont typeface="Wingdings 2" charset="2"/>
              <a:buChar char="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951 – Univac – ( Universal Automatic Computer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451"/>
              </a:spcBef>
              <a:buClr>
                <a:srgbClr val="000000"/>
              </a:buClr>
              <a:buFont typeface="Wingdings 2" charset="2"/>
              <a:buChar char="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964 – IBM Siri 36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451"/>
              </a:spcBef>
              <a:buClr>
                <a:srgbClr val="000000"/>
              </a:buClr>
              <a:buFont typeface="Wingdings 2" charset="2"/>
              <a:buChar char="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981 – IBM PS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228600" y="3805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21304"/>
                </a:solidFill>
                <a:latin typeface="Times New Roman"/>
              </a:rPr>
              <a:t>Samb..</a:t>
            </a:r>
            <a:br>
              <a:rPr sz="4000"/>
            </a:br>
            <a:r>
              <a:rPr b="0" lang="en-US" sz="4000" spc="-1" strike="noStrike">
                <a:solidFill>
                  <a:srgbClr val="221304"/>
                </a:solidFill>
                <a:latin typeface="Times New Roman"/>
              </a:rPr>
              <a:t>Perkembangan Teknologi Komputer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sat Komputer Mind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AAE3-F40F-4F01-983B-BBB7AFBCE8C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CF2F3A-4CB4-45B4-8959-D0F587DA097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21304"/>
                </a:solidFill>
                <a:latin typeface="Times New Roman"/>
              </a:rPr>
              <a:t>Jenis-jenis Komputer</a:t>
            </a:r>
            <a:endParaRPr b="0" lang="en-US" sz="4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 2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puter sup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 2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rangka utama ( main frame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 2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puter mini (mini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 2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syen kerja ( work station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 2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puter mikro ( PC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 2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puter masa hadap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sat Komputer Mind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E90F-15AD-45E4-A3E9-BE0C0F31E95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18E24E-C37E-4D21-8A4D-DE4C5DE6796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21304"/>
                </a:solidFill>
                <a:latin typeface="Times New Roman"/>
              </a:rPr>
              <a:t>Panduan Membeli Komputer</a:t>
            </a:r>
            <a:endParaRPr b="0" lang="en-US" sz="4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 2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enamah kompu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 2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s atau jaminan lepas jua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sat Komputer Mind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90A1-17E9-40CE-B18E-88D311672F5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46B21E-F62C-4004-8396-C722F550C23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21304"/>
                </a:solidFill>
                <a:latin typeface="Times New Roman"/>
              </a:rPr>
              <a:t>Elemen-elemen Dalam Komputer</a:t>
            </a:r>
            <a:endParaRPr b="0" lang="en-US" sz="4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 2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sukan ( input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 2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mprosesan ( processing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 2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luaran ( output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 2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oran ( storage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sat Komputer Mind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6BBB-1FB6-4977-9277-CA685379FFA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AC557B-04ED-472A-9395-7A66DC50049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"/>
          <p:cNvGrpSpPr/>
          <p:nvPr/>
        </p:nvGrpSpPr>
        <p:grpSpPr>
          <a:xfrm>
            <a:off x="1314360" y="838080"/>
            <a:ext cx="7220160" cy="4800600"/>
            <a:chOff x="1314360" y="838080"/>
            <a:chExt cx="7220160" cy="4800600"/>
          </a:xfrm>
        </p:grpSpPr>
        <p:sp>
          <p:nvSpPr>
            <p:cNvPr id="116" name=""/>
            <p:cNvSpPr/>
            <p:nvPr/>
          </p:nvSpPr>
          <p:spPr>
            <a:xfrm>
              <a:off x="1314360" y="838080"/>
              <a:ext cx="7220160" cy="480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845880" y="1740600"/>
              <a:ext cx="2567160" cy="2195280"/>
            </a:xfrm>
            <a:prstGeom prst="flowChartConnector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EMPROSESA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795320" y="2684160"/>
              <a:ext cx="1604520" cy="73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P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310920" y="3053520"/>
              <a:ext cx="48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555600" y="3053520"/>
              <a:ext cx="48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912000" y="2725560"/>
              <a:ext cx="1461600" cy="55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UTP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129280" y="4038480"/>
              <a:ext cx="0" cy="65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774600" y="4818240"/>
              <a:ext cx="2727360" cy="55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TORA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sat Komputer Mind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1BEA-153C-46D0-80CE-A117F63B86E1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35E58D-A720-4F6D-8C85-BCB116320D6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3000" y="1752480"/>
            <a:ext cx="7696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21304"/>
                </a:solidFill>
                <a:latin typeface="Times New Roman"/>
              </a:rPr>
              <a:t>PROGRAM </a:t>
            </a:r>
            <a:br>
              <a:rPr sz="4000"/>
            </a:br>
            <a:r>
              <a:rPr b="1" lang="en-US" sz="4000" spc="-1" strike="noStrike">
                <a:solidFill>
                  <a:srgbClr val="221304"/>
                </a:solidFill>
                <a:latin typeface="Times New Roman"/>
              </a:rPr>
              <a:t>LATIHAN KOMPUTER BELIA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143000" y="3657600"/>
            <a:ext cx="7620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1304"/>
                </a:solidFill>
                <a:latin typeface="Times New Roman"/>
              </a:rPr>
              <a:t>USAHASAMA </a:t>
            </a:r>
            <a:br>
              <a:rPr sz="3200"/>
            </a:br>
            <a:r>
              <a:rPr b="1" lang="en-US" sz="3200" spc="-1" strike="noStrike">
                <a:solidFill>
                  <a:srgbClr val="221304"/>
                </a:solidFill>
                <a:latin typeface="Times New Roman"/>
              </a:rPr>
              <a:t>PKM – SMK KOTA MARUD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usat Komputer Mind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8B56A5E6-8E22-4289-8F64-869AF656B6A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41120" y="914400"/>
            <a:ext cx="77216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221304"/>
                </a:solidFill>
                <a:latin typeface="Times New Roman"/>
              </a:rPr>
              <a:t>LITERASI 1</a:t>
            </a:r>
            <a:endParaRPr b="0" lang="en-US" sz="6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676520" y="25142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SAS TEKNOLOGI MAKLUMA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usat Komputer Mind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AE29B8A7-8D79-48C4-B343-88B47E5CF3E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21304"/>
                </a:solidFill>
                <a:latin typeface="Times New Roman"/>
              </a:rPr>
              <a:t>BAB 1 : PENGENALAN</a:t>
            </a:r>
            <a:endParaRPr b="0" lang="en-US" sz="4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BTAJUK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T Dalam Kehidupan Hari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rkembangan Teknologi Komput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Jenis-jenis Komput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anduan Membeli Komput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lemen-elemen Dalam Komput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sat Komputer Mind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E89D-55DB-4842-9EA3-E90400E943A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667722-4D97-48E0-9087-E77C2C54250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21304"/>
                </a:solidFill>
                <a:latin typeface="Times New Roman"/>
              </a:rPr>
              <a:t>IT Dalam Kehidupan Harian</a:t>
            </a:r>
            <a:endParaRPr b="0" lang="en-US" sz="4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264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si I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Information Teknolog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Teknologi Makluma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sat Komputer Mind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6100-3A64-4FB5-AAFA-53B35EE02A6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4278BC-B90F-43C9-9B80-B975D0B889A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samb.. </a:t>
            </a:r>
            <a:br>
              <a:rPr sz="4400"/>
            </a:b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IT Dalam Kehidupan Haria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 2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oh penggunaan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 2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nggunaan A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 2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osk Maklum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 2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 2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mbelajaran dan pengajar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 2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kongsian maklu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 2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ustri ber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 2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ganisa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sat Komputer Mind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AE7C-1980-4C23-AEA8-D04BAD49B05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2733FF-48B1-4C57-819B-B210AF928DF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samb.. </a:t>
            </a:r>
            <a:br>
              <a:rPr sz="4400"/>
            </a:b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IT Dalam Kehidupan Haria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 2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pentingan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 2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mudahkan kerja-kerja hari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 2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ncapaian maklumat lebih pan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 2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kongsian maklumat dari tempat yang berbe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 2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mbelajaran dan pengajaran lebih efekt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 2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mindahan maklumat lebih sela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 2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isasi – penggunaan konsep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irtual lear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sat Komputer Mind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916A-ADD8-4BCC-A4EF-F00AD56F5D0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B02E0B-888E-49F0-9DEF-0B6182ABDEE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Perkembangan Teknologi Komputer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olusi Pengkomputer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nusia mula mengira menggunakan jari, batu , kayu kecil simpulan pada tali dan sebagainy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iptaan demi ciptaan dibuat hingga berjaya menghasilkan sistem penggiraan yang dikenali sebagai KOMPU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 2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aman Sebelum 1940-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000 SM – Alat Penghitung Abak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14 – Tulang John Nap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42 – Pascal Pasca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94 – Alat Pendarab Leibni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777 – Mesin Logi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801 – Mesin Tebuk Jacquard’s Lo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sat Komputer Mind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4CE1-D2E0-400C-B2CB-D5E082DEC98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C095BE-4D26-4844-8984-550721DBE41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21304"/>
                </a:solidFill>
                <a:latin typeface="Times New Roman"/>
              </a:rPr>
              <a:t>Samb..</a:t>
            </a:r>
            <a:br>
              <a:rPr sz="4000"/>
            </a:br>
            <a:r>
              <a:rPr b="0" lang="en-US" sz="4000" spc="-1" strike="noStrike">
                <a:solidFill>
                  <a:srgbClr val="221304"/>
                </a:solidFill>
                <a:latin typeface="Times New Roman"/>
              </a:rPr>
              <a:t>Perkembangan Teknologi Komputer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Wingdings 2" charset="2"/>
              <a:buChar char="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820 – Mesin Kira De Colm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Wingdings 2" charset="2"/>
              <a:buChar char="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921 – Enjin Perbezaan Babb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Wingdings 2" charset="2"/>
              <a:buChar char="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842 – Enjin Analytical Babb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Wingdings 2" charset="2"/>
              <a:buChar char="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890 – Mesin Tabulasi Holleri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sat Komputer Mind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E449-15B1-4E92-8838-02412B92B7C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51F6AA-47C3-41CE-8D6A-C70B7B26395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30T17:51:07Z</dcterms:created>
  <dc:creator>user</dc:creator>
  <dc:description/>
  <dc:language>en-US</dc:language>
  <cp:lastModifiedBy>SMK KOTA MARUDU</cp:lastModifiedBy>
  <dcterms:modified xsi:type="dcterms:W3CDTF">2002-02-05T08:52:12Z</dcterms:modified>
  <cp:revision>4</cp:revision>
  <dc:subject/>
  <dc:title>SELAMAT DATANG</dc:title>
</cp:coreProperties>
</file>